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2B9-6D24-4D4D-9295-DE7CF5C5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938-8464-40B3-AF75-61FCFC9D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DBBBF-D90F-4B47-A385-934C3094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69A86-26AD-4DAA-8ACF-D641E999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1CB3A-8FDC-448A-926E-BA488ABF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E893B-7A60-4FF0-AA4F-84143316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32BBA-0F53-468C-8489-38AFE8AC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415C5-847A-4E95-BB14-7AE9BBF9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9D754-2805-4382-8535-D8DEE3EC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F8314-81FB-42DD-9D9D-3D39BD50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9DBC5-6C43-45A3-B808-26CCF082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40389-A941-4669-88C4-CAB5F5AC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C16-6CEA-48C9-BF3B-7AABBB6B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E7870-8F4E-4025-B23B-68B4D9C7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CCA17-95AD-4305-9E29-744B5A32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588AD-46EA-403B-B8BA-DFAFD3FB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6C8EE-EE44-48EC-88BD-4E2F5C6B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6BEF2-9B23-40E0-88FF-8E4F517D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D3713-893E-4839-900B-8CFDA341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F52A9-381E-410E-8826-C117CF3C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AC849-83BD-4FCD-A7A0-278C18B9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4D956-B351-4A34-9F38-CC2C91FA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EE4AE-FE73-4021-808A-BCC07A1B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A4DD-7A35-4A81-8D48-74D32BE2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99698-4141-4498-B0DA-6BFD49F0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C2FB3-DB3C-4B25-8739-DE42481D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72987-8533-4CAC-BA4C-BB57C70D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CA73B-BAA2-4DF8-8C20-5E3B8EA6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16313-1264-49C8-8C4E-83DFF224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F8098-53B5-4195-AC6B-28B24982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83EB9-6923-4F26-AA00-384F2137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08745-AA22-4593-B754-149FD56B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D7664-E793-447C-8FEF-C44724D9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750D5-338B-4041-A64C-0F70E5F0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057C-2647-4BF7-9E17-A1ECB336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5131F-4138-402C-8D60-7D74902F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C072F-8D15-4A53-849B-A3EC1770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99729-ADB0-4186-9B0B-0EA74519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D9E26-88FB-4B36-B713-260E1F49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1E61F-D864-4122-9B40-E9B0E480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49237-5B9E-49CC-9D8F-178E0F5F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9CAF7-49DF-43CA-84A1-2336F045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A37FE-A34B-41AC-804A-EE1753D2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ABCE0-6949-4FBE-8BAE-5D11165C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ABB3B-4D17-4830-97FC-067FFFC2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B9D3-5B70-44FC-A5DC-D7BA738A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E0FFE-9830-475C-A058-DCF3046F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D5FE7-FBEA-4D74-8A74-E52F017A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7610E-B63F-4C26-9C09-741D5414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4B085-3A97-45E0-B86A-1FF3250D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8AB22-0F87-4998-A016-9FB9B256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A898-FD91-4853-8BD6-F8B6AE42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6B9F-7635-4F11-8050-A70B0E26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6001-213F-42DD-8DA4-16BCA4F4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77C3-A2E8-4596-A17F-F4F681D1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6622-6373-424E-9733-D850ADAF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636-5125-418F-B438-6A9062FA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89D6-7BAA-4BC2-8459-5ECBC37C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75D0-B2AC-4B46-AE0B-39B52EB7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BB71-9A72-413E-9D9B-E058E7A2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DE2C-4B87-4777-8E18-4FD440F1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634C-EEDB-40AA-B0DE-F64A9B99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5E664-748B-4587-A563-D52CFD55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E6FD8-6859-43CF-874B-9B12BA2F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6F55A-8FAE-4312-A6E2-1553025F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32AFF-374D-4E0D-A458-B3AF4180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77ACE-C6BD-4E97-9B0B-2ED2413C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1169-F060-40D2-BF4D-34E22702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1ED8C-201A-4A66-85B0-339E8D06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E0AEA-7BDC-4B51-988B-BF43C4E6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90FCD-D728-4C1D-95CC-7B05936B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50F74-5710-44BC-9AF6-65A42E70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14746-B509-4CB7-AFB7-05587803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B53F-648A-42E7-977F-EDA610E5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78D1A-A3FF-4E5E-A682-A963786C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A7451-C3EC-4684-ADD4-68F367E8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9FD39-5CFC-4F41-9CA7-8705568B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6A455-7CBA-4F30-8F90-FD4BABCB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1DB-15A4-4163-B03F-B55A9C52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AD35C-B504-4250-BA0C-8D2284EE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F733B-8CDC-426B-9827-05F5FFE8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6556E-A153-4638-AC5E-6F126CBA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AF124-90AB-471F-9DC4-324DE205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B507C-782B-4753-94B7-0B222C9A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A35F4-2BD2-4291-A432-B2F162FF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3BAA-4851-464E-9298-B371463C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E5D74-2296-4154-ABA6-753F73D4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4E63F-BF97-421A-A659-9A77BF49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AF780-C9A5-4827-8F06-527E8CA9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5EE-CA88-422F-A904-3DACF22E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BDCA6-4369-415E-A2E7-08D3E486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9CB64-D408-486E-89A4-4F810439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6A031-EF0A-4F0E-A5AC-201C82A8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73BB3-D85C-46B3-893A-7D960F44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9A7FB-2A8C-4013-B89B-F1A1A90F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59652-5560-4565-9D4F-D7588F2C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E72B8-2AEB-46AC-9211-DC54265F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DE56F-7731-41C2-8F48-B2EC2CC7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8FD76-D06B-49F9-9C5A-76F1FBBB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6E62E-9EED-4DEF-93F9-0CB9B9BD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B254-64B5-4A20-87A4-CE33F3A4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835CD-2439-42BE-BB75-D6619481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E4137-CC22-41CD-9974-B863AD5C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E10D5-B894-4986-9A03-A435C97C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C6897-48C5-4E78-9958-0AF721B6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E1FFD-681E-4D65-8029-81B5AC10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D91C3-176F-4C50-865F-2A9888EB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4A995-FC37-4F03-91DD-27123D48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0965F-DEF9-423E-8514-FB871FEB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E7121-C60C-4807-BEE9-9B9CCEAE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E6009-F66C-431E-8984-6672A5A2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F5A2-5F85-48E4-B9FB-696684DC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C5345-157D-433E-BCB3-872ACF5B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52F27-2C92-4637-8238-4824CFA0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1BD32-6DD4-47D6-A3B0-2C93E0FE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CB6CE-3422-41B5-B22D-53EA7144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498D6-7403-4A4A-91BE-A68683B3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C2AF2-F944-4104-B138-D3CF8477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7A8DF-929C-48E5-A9ED-FF88295E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AD11A-99E6-4642-8364-331D8964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DE038-584A-491E-89C3-F462F66D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895F4-C5ED-4836-B999-C5EBE1CB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6259-3C7B-4F1B-A113-CC8A8B2D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6AADA-E384-401A-A379-4B896659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9BE05-8C06-4BDA-BCA6-0849A105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979A3-F7DC-4D31-994C-E0DE5481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910BD-6D4F-4A18-80DB-172B0F55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0B4B2-40E5-4B45-99CC-DE8DEAA1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E3C89-58A4-4739-94C7-75924C5C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3A659-39FC-42C5-AA34-B42AEAD1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D5BB3-F287-4FCB-B4AB-AD0C0FA1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779E1-6782-4446-86A9-E0EBCD0A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21014-D480-406C-B4A6-DCC67D6C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C2F-52D9-4732-BD22-9712720B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CD39D-C163-4AA7-98FE-C74CC0F7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6CC5C-3F8A-4BC0-A356-687D906E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3C527-D07E-4ED7-9195-59FE0B70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CCD58-1243-45FE-887A-395A4FD8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06917-3BEC-40DD-BEC8-12962A9E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14DC4-3637-406E-BDB5-83768906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E7485-7459-4E7D-87F4-4F98E73B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1175F-43F6-4F47-BD57-E209E516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10370-8171-45E6-A7CA-FCB1C4D1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18DA8-9B71-4254-ACE5-00358979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B6F6-FC96-4210-BA8B-9BE28A4D6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2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6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74CD-36C4-4A3D-B70E-306D229B2B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809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81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5AE2-0BDB-416F-A41A-EE9496D46E1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863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864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9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870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ftr" idx="3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4F0E-5854-4310-A4CE-D467B9A57C3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1011-7600-4254-A7BC-9E0385194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17EC-CA3B-4DC0-A6AD-6FE9487EC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5C00-603B-4E1F-92E5-D7086FDD9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0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F2DF-CA4D-4825-A97F-F6843585DD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3980-1EBF-4C51-82B6-DD6E0495E1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9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9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0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0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1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8D83-9DCF-4FCF-8F1D-190DF59A531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7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7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7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0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8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8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9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F5AF-324C-457C-80FB-2BACEE8401F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4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E4A2-A9C7-440A-A811-ADFED9F945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0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CLASE DE ESPAN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Vict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OS ANIMA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 animales son differente de los otr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4495680" y="1143000"/>
            <a:ext cx="4648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OS PAIS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572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AS PLANET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648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OS CONTINENT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37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4381560" y="1676520"/>
            <a:ext cx="47624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S CAPIT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4" name="" descr="Play"/>
          <p:cNvPicPr/>
          <p:nvPr/>
        </p:nvPicPr>
        <p:blipFill>
          <a:blip r:embed="rId1"/>
          <a:stretch/>
        </p:blipFill>
        <p:spPr>
          <a:xfrm>
            <a:off x="155520" y="4608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2"/>
          <a:stretch/>
        </p:blipFill>
        <p:spPr>
          <a:xfrm>
            <a:off x="3981600" y="1828800"/>
            <a:ext cx="51624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29:57Z</dcterms:created>
  <dc:creator>WSFCS Workstation</dc:creator>
  <dc:description/>
  <dc:language>en-US</dc:language>
  <cp:lastModifiedBy>WSFCS Workstation</cp:lastModifiedBy>
  <dcterms:modified xsi:type="dcterms:W3CDTF">2010-04-26T15:57:36Z</dcterms:modified>
  <cp:revision>3</cp:revision>
  <dc:subject/>
  <dc:title>LA CLASE DE ESPANOL</dc:title>
</cp:coreProperties>
</file>